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4FE-2A15-4831-AFA0-61423E18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77D-2F5D-4542-BE4D-6DFEAED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E34-A1A9-40B2-86D4-F574C9E9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FC7-2CC2-4BDE-BDE4-CFA4DE80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579-90A1-4C5C-80AE-646200CD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451-F695-46FA-B377-18F2BFFC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41A-257A-48FE-A0E1-1C56F612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A5D-1DAD-4E95-8CF3-DBE4D02D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39D-57E7-424A-A22D-17BAC3E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CF0-A46C-4842-B50C-58E3FA9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DA3-2D29-486B-843C-A9D33476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184-FF43-40B7-95A7-EB50A8A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7BF7-247B-4A70-8A71-7F1D6CA9AA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814-18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5083200" y="1981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омпозиц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озиция – вступительная часть произведения, в котором нет развития основно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язка – начал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зоды (развитие действ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минация – самый волнующий момент произ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язка-конец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лог – заключительная часть произведения, знакомящая с дальнейшей судьбой геро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амостоятельная работа учащихс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одведение итогов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(карта успеха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читаем балладу в соответствии с новым ее  понимани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исовать рисунки к балладе М. Ю. Лермонтова «Три пальм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Mistral"/>
                <a:ea typeface="Gautami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3000240" y="1000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700"/>
                            </p:stCondLst>
                            <p:childTnLst>
                              <p:par>
                                <p:cTn id="229" nodeType="afterEffect" fill="hold" presetClass="exit" presetID="3" presetSubtype="10">
                                  <p:stCondLst>
                                    <p:cond delay="3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1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24440" y="2143080"/>
            <a:ext cx="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точное сказание – это рассказ исторического и легендарного характера на Вост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ное стихотворение на легендарную или сказочную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вийская пустын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Б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рис – по-арабски: всад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АРАВА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аван –группа вьючных животных (верблюдов, ослов, редко лошадей), перевозящих грузы и людей (главным образом в пустынных район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АЗИ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азис – расположенный около естественного водоёма островок раст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М.Ю.Лермонтова 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643120" y="2071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– сюжетное стихотворени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-развитие действия,ход событий в произвед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язка, кульминация, развяз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7:25:27Z</dcterms:created>
  <dc:creator>raidama_company</dc:creator>
  <dc:description/>
  <dc:language>en-US</dc:language>
  <cp:lastModifiedBy>Эксперт</cp:lastModifiedBy>
  <dcterms:modified xsi:type="dcterms:W3CDTF">2013-01-27T17:13:15Z</dcterms:modified>
  <cp:revision>15</cp:revision>
  <dc:subject/>
  <dc:title>Михаил Юрьевич Лермонтов</dc:title>
</cp:coreProperties>
</file>